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2D25-3FC0-498E-A57E-A627862D14C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128-3B6A-4193-83D2-02098F209B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AAD6-4A61-4B8D-B6A1-3694CC0D044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B02-8F1E-49ED-AA3F-B6013E5E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433-D0AA-4272-8EB9-7F92147D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357-0744-4912-ABF6-EA635DCC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0CE-9940-48F1-BAB1-5DE11C8B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81B-B2F1-4AD2-971D-E00D2958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8C1-919B-4F3D-8D85-C9FA88FC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BAD-A3BC-4B90-AB13-BF22E4F2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040-E6CA-4B7B-A23A-BD788D50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3A4-84CE-4B32-BDA5-007F0E54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ECF-704C-4FAE-8D76-87BF4DC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451-72E7-4338-80E1-4E206A3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378-8D35-40C2-9F42-22FE30C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08E-C599-4233-956A-6A2B4375B35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A Saúde das Servidoras e Servidores em Tempos de Intensificação Tecnológica do Trabalho, Gestão por Competência e Teletrabalho: Diagnóstico e Prevenção.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Iº Seminário Nacional de Fenajufe sobre Saúde do Servidor e P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Brasília, 10 de outubro de 20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Sintomas osteomusculares</a:t>
            </a:r>
            <a:br>
              <a:rPr sz="4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*Servidores trabalhando com processo eletrônico desde 2004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** Servidores que responderam trabalhar preponderantemente com virtua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1557360"/>
          <a:ext cx="7777080" cy="4591080"/>
        </p:xfrm>
        <a:graphic>
          <a:graphicData uri="http://schemas.openxmlformats.org/drawingml/2006/table">
            <a:tbl>
              <a:tblPr/>
              <a:tblGrid>
                <a:gridCol w="971280"/>
                <a:gridCol w="757440"/>
                <a:gridCol w="792000"/>
                <a:gridCol w="792360"/>
                <a:gridCol w="790560"/>
                <a:gridCol w="865080"/>
                <a:gridCol w="863640"/>
                <a:gridCol w="1008000"/>
                <a:gridCol w="936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r sempre /quase s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al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T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JF 2011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Fs 200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coç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4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b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ç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4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Indicativo de distúrbios psíquicos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RQ 20 Geral = 31,8%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2421000"/>
          <a:ext cx="8785440" cy="1871640"/>
        </p:xfrm>
        <a:graphic>
          <a:graphicData uri="http://schemas.openxmlformats.org/drawingml/2006/table">
            <a:tbl>
              <a:tblPr/>
              <a:tblGrid>
                <a:gridCol w="587520"/>
                <a:gridCol w="877680"/>
                <a:gridCol w="814680"/>
                <a:gridCol w="814320"/>
                <a:gridCol w="866880"/>
                <a:gridCol w="792000"/>
                <a:gridCol w="792000"/>
                <a:gridCol w="792360"/>
                <a:gridCol w="863640"/>
                <a:gridCol w="792000"/>
                <a:gridCol w="79236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T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E 20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 J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JEFs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 J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Q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Uso de medicação/tratamen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182600"/>
          <a:ext cx="8229600" cy="5486400"/>
        </p:xfrm>
        <a:graphic>
          <a:graphicData uri="http://schemas.openxmlformats.org/drawingml/2006/table">
            <a:tbl>
              <a:tblPr/>
              <a:tblGrid>
                <a:gridCol w="2459160"/>
                <a:gridCol w="863640"/>
                <a:gridCol w="863280"/>
                <a:gridCol w="865440"/>
                <a:gridCol w="792000"/>
                <a:gridCol w="792360"/>
                <a:gridCol w="792000"/>
                <a:gridCol w="80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-inflamató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iolíticos/calm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édio para dorm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depres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pun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educação pos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i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droginá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roprax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opat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at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usas Cruzamentos</a:t>
            </a:r>
            <a:br>
              <a:rPr sz="4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ste qui-quadrado de associação de variáveis e teste T de mé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856040"/>
        </p:xfrm>
        <a:graphic>
          <a:graphicData uri="http://schemas.openxmlformats.org/drawingml/2006/table">
            <a:tbl>
              <a:tblPr/>
              <a:tblGrid>
                <a:gridCol w="6491160"/>
                <a:gridCol w="1738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ltado 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nca faz ou faz de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a a duas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sas aumenta a possibilidade de distúrbio psíquic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 -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 que fazem mais de duas pausas aumentam a possibilidade de não ter distúrbio psíquico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ativo -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nca fazer pausa tem relação direta com sempre sentir dor em todas regiões questionada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 -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zer 7 a 8 pausas diárias tem relação direta com nunca sentir dor em pescoço, costas, ombros, cotovelos, punhos, mãos e pern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ção -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braços, dedos e pés é indiferente fazer 7 a 8 pausas diária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ferente-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i estabelecida relação direta entre nunca fazer pausas com sempre sentir dor e/ou ardência, ressecamento, cansaço e visão embaralhada ou desfo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 para sintomas o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zer pausa se mostrou indiferente para nunca haver dor e/ou ardência, ressecamento, cansaço (olhos) e visão embaralh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fer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Quantidade de trabalho Cruzamentos</a:t>
            </a:r>
            <a:br>
              <a:rPr sz="4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ste qui-quadrado de associação de variáveis e teste T de mé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413000"/>
          <a:ext cx="8353440" cy="4983120"/>
        </p:xfrm>
        <a:graphic>
          <a:graphicData uri="http://schemas.openxmlformats.org/drawingml/2006/table">
            <a:tbl>
              <a:tblPr/>
              <a:tblGrid>
                <a:gridCol w="6588000"/>
                <a:gridCol w="1765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ltado 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mento da quantidade de trabalh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em relação direta com sempre e quase sempre sentir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 pescoço, costas, ombros e braç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ra sintom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eoarti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mento da quantidade de trabalho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 relação direta com sempre, quase sempre e as vezes sentir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m cotovelos, punhos, mãos, dedos, pernas e p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ra sintom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eoarti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ver aumento da quantidade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trabalho tem relação direta e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n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entir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ção para sintomas osteoarti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i estabelecida a relação direta entre afirmar haver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mento da quantidade de trabalh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 responder que sempre ou quase sempre sentir dor e/ou ardência, ressecamento, cansaço e sentir a visão desfocada ou embaralh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para sintomas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iscriminação</a:t>
            </a:r>
            <a:br>
              <a:rPr sz="44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ocê sofre algum tipo de discriminação/preconceit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2,6%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por se afastar para tratamento saú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1,5%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obes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0,9%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cre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7%    cor/et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6%    deficiência fís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5%    orientação sex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5%    gên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87,5%  não sofre discrimin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Alterações na saúde com Eproc</a:t>
            </a:r>
            <a:br>
              <a:rPr sz="4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jufergs – Dr. Cândido Leal Jun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Espaço Reservado para Conteúdo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302680" cy="4535640"/>
          </a:xfrm>
          <a:prstGeom prst="rect">
            <a:avLst/>
          </a:prstGeom>
          <a:ln w="0">
            <a:noFill/>
          </a:ln>
        </p:spPr>
      </p:pic>
      <p:sp>
        <p:nvSpPr>
          <p:cNvPr id="8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698E-1E61-467E-A49D-3770E58CFD0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Identificação dos Problemas</a:t>
            </a:r>
            <a:br>
              <a:rPr sz="4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jufergs – Dr. Cândido Leal Jun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Espaço Reservado para Conteúdo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96560" cy="4535640"/>
          </a:xfrm>
          <a:prstGeom prst="rect">
            <a:avLst/>
          </a:prstGeom>
          <a:ln w="0">
            <a:noFill/>
          </a:ln>
        </p:spPr>
      </p:pic>
      <p:sp>
        <p:nvSpPr>
          <p:cNvPr id="8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EFF8-E87F-4197-A21F-1F463588AE2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Je – Justiça do Trabalho – RJ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téria do O Globo – Outubro 201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 sistema eletrônico só funcionou, sem interrupção, 2 dias em outubro, segundo TRT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 Prazo médio para a tramitação de uma ação no RJ subiu de 222 dias para 380 dias esse ano, significando aumento de 71%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outubro/13 aumentou 0,5% ingresso de açõ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 juiz Saulo José Cassari Bahia destacou que a receptividade do Pje tem sido boa nos  outros 24 T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Implementação do PJe na JT/RS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vantamento Junho 2013 – Sintrajufe/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istema lento, queda da internet, bu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usência de critérios para entrada de documen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eficiência do sistema de pesquisa e bus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eficiência ou ausência do controle de praz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mpossibilidade de fazer o cadastro de outros interessados n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porte ineficaz: treinamento insuficiente, as modificações não são notificada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mbiência rui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dução de servid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mostragem</a:t>
            </a:r>
            <a:br>
              <a:rPr sz="4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dos da pesquisa de saúde Servidores do Judiciário Federal -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6273       questionários distribuí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3744       questionários respondi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41,7%     Justiça do Trabalh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30,3%     Justiça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14,8%     TRF 4ª Reg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12,6%     Justiça Eleito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7%       Justiça Mili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íodo: Setembro/11 à Janeiro/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tualidades do PJe -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xpectativ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tinção de secretarias = 8 varas  p/ 2 secretari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dução de atividades de apoio, mais assessoria ao Juiz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dução de 3 a 4 servidores por var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ses de implementaçã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canear papé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se atu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teligência artificial: fará minutas, sentença e vo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locar o PJe totalmente na interne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 PJe apenas 2,5% indisponível. SC não terá mais varas PJ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Teletrabalho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Resolução nº 92 de              28.05.13 do TRF 4.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esão facultati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penas processo eletrônico para mensurar o desempenh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erá metas de desempenho e essa deverá ser superior aos que trabalham nas dependências do setor de lotaç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definição é prerrogativa da administração, o único critério individual é acompanhar o cônjuge, os outros são gerais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ever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cumprir as metas e ficar a disposição da unidade de lotação; arcar com os custos da estrutura física e tecnológica (com equipamentos ergonômicos adequado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OBRATT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ociedade Brasileira de Teletrabalho e Teleatividad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eletrabalh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companhar o cônjug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uidar de familiar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zer seu próprio horári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enfrentar o trânsi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zer pausas sem temo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conomizar nas roup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sência de contradições com coleg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ntre outr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solamento soci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vasão da vida privad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ntimento de não pertencimen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lta de cooperação e trocas sobre o trabalh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dividualização da taref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bsorção de custos que eram da instituiç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forma do Judiciário - Objetivos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nco Mundial/Documento Técnico Nº 319/1ªEd. 19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Necessidade de uma reforma para aprimorar a qualidade e eficiência da justiça, fomentando um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ambiente propício ao comércio, financiamento e investiment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”. (Prefác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Hoje os objetivos destes projetos é o de promover um serviço eficiente e igualitário, respeitado e valorizado pela comunidade. A economia de mercado demanda um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istema jurídico eficaz para governos e setor privado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visando solver os conflitos e organizar as relações sociai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”. (Sumário executiv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ais especificamente a reforma do judiciário tem como alvo o aumento da eficiência e equidade na resolução de conflitos, ampliando o acesso à justiça e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promovendo o desenvolvimento do setor privad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” .(Introdu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forma do Judiciário - Propostas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nco Mundial/Documento Técnico Nº 319/1ªEd. 19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..bem como a publicação de estatísticos processuais de cada Corte, estimulando os magistrados a atuar de forma mais eficiente. Os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salário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devem ser cuidadosamente avaliados nos projetos de reforma, para proporcionar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incentivos adequados para juízes e servidore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s dados relacionados aos processos podem ser utilizados para... distribuição de recursos, planejamento, gerenciamento do fluxo processual,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avaliação de desempenho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... Além disso, pode auxiliar em identificar as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Cortes que operam eficientemente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informando as outras sobre os programas e procedimentos bem sucedidos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(competi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forma do Judiciário - Propostas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nco Mundial/Documento Técnico Nº 319/1ªEd. 19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..Os projetos devem preparar o quadro de servidores, encarregados da parte administrativa das cortes, para desenvolver o planejamento e a pesquisa necessária a aplicação das técnicas de gerenciamento processual. Também é importante que as avaliações sobre o fluxo processual sejam feitas pelas Cortes, como forma de analisar as questões relacionadas a morosidade, e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estabelecer prazos padrões para processamento de processos e monitoramento individual do andamento de cada process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”. (controle do tempo de trabalh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edindo e Aprimorando o Desempenho do Judiciário no Brasi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cumento do Banco Mundial – relatório nº 32789- Br. 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30 de dezembro de 20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rece que os juízes não são o proble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levação do número de processos por juiz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Juizados especiais c/ alto níveis de produtividad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00 a 800 soluções finais por ano JT e JF – padrões altos para países latinos american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400 soluções finais por ano J. Est. – recorde region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custo é maior, mas apresenta maior produtividad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 estatísticas são poucas e esses padrões empíricos não são utilizados para anális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iste pouco debate sobre os problemas, sejam da implementação da informatização ou do poder judiciári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Quais são os principais motivos de afastamento do trabalho?</a:t>
            </a:r>
            <a:br>
              <a:rPr sz="44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onte: Anuários Estatísticos da Previdência So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4000" y="1916280"/>
          <a:ext cx="8424720" cy="4659120"/>
        </p:xfrm>
        <a:graphic>
          <a:graphicData uri="http://schemas.openxmlformats.org/drawingml/2006/table">
            <a:tbl>
              <a:tblPr/>
              <a:tblGrid>
                <a:gridCol w="3841560"/>
                <a:gridCol w="1523880"/>
                <a:gridCol w="1597320"/>
                <a:gridCol w="14619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ões, envenenamento e outras consequências de causas exter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3.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9.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nças do sistema osteomuscular e do tecido conjun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7.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.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tornos metais e comportamenta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nças do aparelho dige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.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nças do aparelho circulató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.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.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oplas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.0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 o que estamos lidan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informatizaçã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gravou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os já existentes problemas de organização e relações de trabalho no Judiciário Fede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s indicadores de saúd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voluiram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onde foi implementado o processo eletrôn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esença de maior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e determinação d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etas inalcançávei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mento d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e trabalho/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tensifica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/ /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ecariza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própri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strument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e trabalho nos modifican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ultura de excelênc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mpregnada da ideia de perfeição e de superioridade. Afrouxamento de princípios éticos. Sentimento de onipotência, desrespeito com os subordinados e com seus próprios limi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erspectivas</a:t>
            </a:r>
            <a:br>
              <a:rPr sz="44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ecarização do Trabal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69992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iora das condições de trabalho afetarão a saúde mental, osteomuscular, ocular e outr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rgos concentrados em Juízes, nos de formação jurídica e informática (?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dronização e intensificação do trabalho, fazendo do juiz um operador e não um pens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decisões judiciais serão geradas nos níveis superiores da hierarqu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salário será desproporcionalmente maior para os de cima na hierarquia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scolaridade</a:t>
            </a:r>
            <a:br>
              <a:rPr sz="4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dos ger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resso no Judici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dio Incompl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dio Compl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Incompl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Compl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ós/Mestrado/Douto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*Diferenças Salariais </a:t>
            </a:r>
            <a:br>
              <a:rPr sz="44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(Federação Norte-Americana do Trabalho e do Congresso de Organizações Industriais – AFL-CI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ecutivos recebem 331 vezes mais que o salário do trabalhador americano médio e 774 mais que o salário mín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tes dos anos Reagan o salário dos diretores era 42 vezes o salário méd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9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salário dos diretores era 20 vezes maior que o dos trabalh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Soluçõ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oteção individual da saú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elhora da ambiência, hardware e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mplementação das paus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bate com a sociedade sobre a Reforma do Judiciário e seu papel na democrac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profundar o debate sobre a organização do trabalho, inclusive suas formas de premiação e remuneraçã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dução da jornada de trabalh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transigente defesa da saúde dos servid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219280" y="5157720"/>
            <a:ext cx="3745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ogério A. N. Do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édico do Trabal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tividade preponder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1593720"/>
                <a:gridCol w="1225800"/>
                <a:gridCol w="129528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tiça Fed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tiça Mili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tiça do Traba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tiça Eleit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dimento fone ou balc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 não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fís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virtu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de fí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de vir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o processo eletrô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268280"/>
          <a:ext cx="8229600" cy="5427720"/>
        </p:xfrm>
        <a:graphic>
          <a:graphicData uri="http://schemas.openxmlformats.org/drawingml/2006/table">
            <a:tbl>
              <a:tblPr/>
              <a:tblGrid>
                <a:gridCol w="5770440"/>
                <a:gridCol w="1297080"/>
                <a:gridCol w="1162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F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º Gr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 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ilidade de cometer erros é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ior no eletrô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ilidade de cometer erros é maior no fí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ilidade de cometer erros é ig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 sabe respo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rro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lternar e copia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ados de outras jane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é o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ansaç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é a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orma como são nomeados os documentos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s pa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é pouco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mp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ra a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ná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é dificuldade para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ifica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utenticidade dos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são as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t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 produtiv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o processo eletrô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419720"/>
        </p:xfrm>
        <a:graphic>
          <a:graphicData uri="http://schemas.openxmlformats.org/drawingml/2006/table">
            <a:tbl>
              <a:tblPr/>
              <a:tblGrid>
                <a:gridCol w="5627520"/>
                <a:gridCol w="1295640"/>
                <a:gridCol w="1306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F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º Gr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eitur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é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is difícil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mon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igual no processo físico ou no mon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no processo físic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no monitor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lo cansa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no monitor pel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possibilidade de marcar o texto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 as pág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pel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xtensão do tex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pel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no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pel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ficuldade de concentr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413000"/>
          <a:ext cx="7848720" cy="5122800"/>
        </p:xfrm>
        <a:graphic>
          <a:graphicData uri="http://schemas.openxmlformats.org/drawingml/2006/table">
            <a:tbl>
              <a:tblPr/>
              <a:tblGrid>
                <a:gridCol w="6497640"/>
                <a:gridCol w="135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stabil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l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Jornada de traba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ividades/taref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nefícios oferec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onamento com os cole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iculdade de conseguir emprego mel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, reconhecimento e valor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físico/confor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onamento com as chef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 de capacitação/trei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esmotiv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1341360"/>
          <a:ext cx="7067520" cy="5116680"/>
        </p:xfrm>
        <a:graphic>
          <a:graphicData uri="http://schemas.openxmlformats.org/drawingml/2006/table">
            <a:tbl>
              <a:tblPr/>
              <a:tblGrid>
                <a:gridCol w="4475160"/>
                <a:gridCol w="1295280"/>
                <a:gridCol w="129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F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º Gr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ta de possibilidade de cresc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olítica de capacitação e trei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svalor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 atividades e taref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onamento com as chef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desconforto (ambiente físic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sal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nada de traba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nhecimento para realizar as taref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onamento com os cole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ícios oferec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alibri"/>
              </a:rPr>
              <a:t>Sintomas oftalmológicos</a:t>
            </a:r>
            <a:br>
              <a:rPr sz="48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* servidores trabalhando com processo eletrônico desde 2004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** servidores que responderam trabalhar preponderantemente com virtu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1773360"/>
          <a:ext cx="7716600" cy="3959280"/>
        </p:xfrm>
        <a:graphic>
          <a:graphicData uri="http://schemas.openxmlformats.org/drawingml/2006/table">
            <a:tbl>
              <a:tblPr/>
              <a:tblGrid>
                <a:gridCol w="1439640"/>
                <a:gridCol w="865440"/>
                <a:gridCol w="863280"/>
                <a:gridCol w="863640"/>
                <a:gridCol w="863640"/>
                <a:gridCol w="865080"/>
                <a:gridCol w="935280"/>
                <a:gridCol w="1020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pre /quase s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ot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ot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ot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ot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ot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JF 2011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Fs 200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 e Ard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eca-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saç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baralhada e desfo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18:36:56Z</dcterms:created>
  <dc:creator>Rogério</dc:creator>
  <dc:description/>
  <dc:language>en-US</dc:language>
  <cp:lastModifiedBy>Usuário</cp:lastModifiedBy>
  <dcterms:modified xsi:type="dcterms:W3CDTF">2014-10-10T12:17:16Z</dcterms:modified>
  <cp:revision>194</cp:revision>
  <dc:subject/>
  <dc:title>Pesquisa Geral de Saúde Servidores do Judiciário Federal e Comparativo JF e TRF 4</dc:title>
</cp:coreProperties>
</file>